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0F3-0CEE-4B0F-ADB7-CEC8CDFD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357-620D-47B1-AFE4-47EBBE17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5A8-D057-46E2-ACF7-A0B24858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530-61D2-4E35-BF07-A2A45A8C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06D9-EF5A-4CBD-8CB7-10DBF6E4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BF38-5325-406D-BFA5-2AC42EDF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DF2C-5849-4FF2-8B78-765FA40B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C112-9462-42E3-95E7-F4DEC9E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C58B-3BBA-4017-B7B7-98811B25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39C5-ECFB-4F97-B4E4-37F47A4D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EE7A-251C-4C8A-B23D-4FF808C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307-77D1-46C0-9BCE-ABFFEB1E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D4C5-92B4-4C49-8A7C-3EDEB1AC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044F-FBA6-445C-90BA-2053E41F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94F8-F321-4D10-8D2C-7C75325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32AB-E075-4668-882A-EB91B194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1978-BEB4-472C-B53F-1314706A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AC4-0EE7-46C1-BDB1-C0390E9D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DA6-3362-4A73-A111-B8ADA0C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035-4716-4D9F-9D42-F70D43F1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43C-8A36-42F8-9DD3-AA177AAD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856-6132-4FD8-A518-327AEB4B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DAF-EDF0-4845-8048-91BC3D2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D4E-781C-49A2-BA31-EC4042B6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114B-73E6-4F3D-9E8D-FAD15BF29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5F48-A8D9-4C08-BE02-A5FCC2EE1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54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up Project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’s &amp; Group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o/wh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oup member will evaluate every other group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al constructively with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 i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assigned tas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of initiative or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00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individual evaluation is a D or less (&lt; 67) your overall project score will be 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FD sections of 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January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H Problem 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ful Stuff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ings to Keep You B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abou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your team members will be spending a lot of time together so choos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chedules of other prospective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team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urse documents of 5405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January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http://acg540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5:00-6:00; Tuesday 10:00 – 11:30 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nformation Systems 7th ed., by  Gelinas and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Gliffy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G&amp;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kely you’re group will do them in class, and we will 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you with the basic background and tools that will allow you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ilitate and/or 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volution of contemporary accounting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solid understand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ective system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and develo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ffec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ity-wide internal contro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ici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impro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 information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he contemporary issues involved in provi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rance services for systems and database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Steven Hornik</cp:lastModifiedBy>
  <dcterms:modified xsi:type="dcterms:W3CDTF">2009-01-08T21:31:43Z</dcterms:modified>
  <cp:revision>56</cp:revision>
  <dc:subject/>
  <dc:title>ACG 5405 Intro</dc:title>
</cp:coreProperties>
</file>